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A1C-3603-4E1F-A2AC-F312BF54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910-E3EA-4518-B942-4A53314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2B6F-3354-40D0-B4B2-896DCDCF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2266-96BD-4FB7-9607-39B0F54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22659-993A-4CEB-8146-FA63A33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FD7B-47AE-4CE7-B292-27EB77D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DF045-7054-4173-B3DD-8211E7E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414D-D235-442F-874A-C102211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B3147-6BD2-4C21-BBFA-C609575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2C98-5EAC-4EFA-AA21-68531D0B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40D7A-746B-4BD9-83C3-AF7C5F74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B473C-0783-4168-A3EE-8DC76449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89A-0FBD-481B-BD64-674889C2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17EF-FA0C-4CEE-8C55-CFA2877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4B0FA-278F-4EA0-8953-82344FB1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2BDF-DD38-4544-9008-7C69F55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C2BD-E75A-4FD8-BE6E-568A5DDE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0600D-A89C-47B9-86DA-7280C475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9AE92-E687-4A3A-A129-D34F8E30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DADA5-76AB-4309-BF5F-68CCF52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5415B-657D-4D37-96E4-51D0524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8464-62D8-48EE-89E0-60ED0469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12907-9E35-45B8-9267-09ADB2D9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366-0D7C-4B09-90FC-07328C20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B7EF6-E327-4D7B-8642-B8A1382E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7DE1-4DDF-4BC9-AA54-4D996AB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E035-A0FF-4D23-982A-17F46F1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CF08-B832-416D-AA0C-6E78B32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046C2-8876-45E1-B1A4-DCAC48FF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54C9-B044-47E2-9076-232AA349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C3AFD-BB72-4B7C-A63B-D1B7A15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63A27-06FC-4EC0-9A54-75F73AE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2B61B-7AF2-4A99-8EF8-8836956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5A2E-6A58-4E3C-A238-40FF952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95B4-90CF-47ED-98C4-B28706C2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A008-A15A-4FC6-937F-B0E352A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C93B0-4608-43E6-B85D-6A02A927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B0D35-AECA-4589-AC0B-4FAD4DE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0F4AC-8136-40AD-A1CB-5A543EDA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70E4A-C61A-43AB-B61B-DAAAC17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17428-53B6-4EC1-A136-8956FBDE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41B2A-A48D-499F-BF40-E536CB6E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5D062-3CC8-454B-BE72-101BDA5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BE093-7FE0-48F0-8BE4-888143F4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929D1-E88C-4A8F-A4FE-2478180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C9B-8C38-4A81-8FE3-0F69768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5C4A1-7335-44EA-B123-5264C54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46B37-B989-4872-B9A3-1093214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8F1AB-E10E-4DC3-A07B-1167076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5C52-9697-409A-AC96-EF7456B3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DAA7D-ADAD-44B3-95C1-9730B6D1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E4BDC-C4E3-4FA9-AA1E-CDFC6D4C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373B3-C4BF-4E5F-8043-3214370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75956-EA1D-4D11-B277-22502B4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234CE-2546-4640-AAF1-4988C997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15A76-0F02-400B-A948-75D6FFA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166-8F4A-401C-8614-DD5EE46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97387-6D33-43B9-BB2B-C1B9018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05D29-44F3-4F0B-AE90-41329D5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47853-FCCE-4B8F-9397-ECCECE9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9B3BC-06D9-449E-A83D-455FFE74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D4018-493B-4740-A0B5-8840A88C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F6A37-E59A-46DF-ABEE-8C063B9B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7BAB8-8B85-40DD-B166-DF8E3AC0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B39B8-D4C6-4714-A4CA-D20E87B4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780D0-0BBB-4A8E-AE70-5A2CC6D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D8D28-24A7-47DF-8A7E-991C521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B1EE-EA85-4E8F-91E6-6A6A2932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F2C85-1241-48E9-A167-B398D605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332E0-D363-4C4B-88E8-51D34412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5590D-1F38-44B7-BE41-EBE3C16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248AD-DA2B-487B-8CF9-A52A368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E4CF5-18A0-4051-8B9B-966D7C3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1133D-DA2E-4090-9D55-C26D446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820E7-0DB5-4645-852C-F891E38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B7ECC-D200-4EBF-BB5D-BCC5C8C6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48819-6CE2-4DF9-8846-C303D195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19BE1-9B73-4D44-8ACB-6D2B47A6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C66-BBCF-44F2-87F5-05F4669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00340-4D43-41ED-BA0A-367EA1E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72896-3B1F-4AF8-B69E-BE34761A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16AA2-EF54-46ED-B1A1-310FA1E4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F045A-DFFB-4540-85B2-6AB89E0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9714B-1A10-4BBD-9FE9-E6B9C89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76CCE-7DE6-4036-ADF0-7542643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37CA7-7F5B-4418-BBAA-8E1A62F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07AC6-EB53-4653-82EB-1D87DA4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F3C24-B0F6-4512-92D6-B45EE9A8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7A139-CDC2-48B8-B867-89974E09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12ED-4899-4B9B-9D15-16751E92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2E8F3-E6F1-481C-BE99-D973017A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87573-558B-4A98-9C53-6099903B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C2D5A-7982-4BEE-B943-33093C43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3C0C1-0DA2-4523-8F60-9FBC7AB2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9C282-9DAF-4850-B45C-8E486F9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63D45-72F5-44D8-BC36-705901C6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3D34B-6B52-4E95-9233-E11AB02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DF348-F214-42B8-895E-BCE7701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31237-6302-49B9-84E4-28B4F6E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3D9F7-10C5-47BE-8202-2F491B7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688-8906-48C7-A3F4-7BDC36A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11154-7621-4B5D-BC97-2A78E36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92E72-03C5-4664-996C-ADAD957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48A0D-755C-431E-A484-6E2A92A6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16853-9C5E-4C79-9BB2-06DD8B75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5DD42-3435-42BA-95A8-AF239E47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06190-F8BC-4A98-AEDF-6EF1E0B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03E6F-95B6-4C77-860E-1E1029E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8C508-8807-4BC9-B385-0CAEC4C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643E3-98FA-4AE4-A97B-AA2BC6E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AB3A0-88F9-43D5-A936-A6D9507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FA9-6CBF-450E-95CC-915652AA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8BB6-270E-4A41-94F4-044E3041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D1CEF-448B-4019-B420-1D531BF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FF671-E514-4B11-AA15-3E62B46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8AB8B-8588-4C7E-8984-7ABF3D3F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5A9AB-1AAE-4E00-8171-78D9071F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15965-606C-464D-8DF3-2CBA0444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494D0-EE18-4020-B9B5-7500929D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00EA6-BD2F-493F-BD5F-B4AD89D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C6864-7C79-434C-96DF-51B464C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DBAC1-6B14-4681-96DE-5F92D05D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3B1F1-7C26-4E29-A4B2-A20E8EF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F5F-B952-42C7-B523-A9A33C6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B85D5-2827-4C7A-8F1C-7A0CD2BC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6BC2C-A129-4844-9221-85610B8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10B35-BEBF-4E2C-9279-EA41BF3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C38A8-205D-4776-B400-D0B3843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72CFB-531B-42FD-92D5-81480A6D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1F731-D6BD-4D45-A625-BE2C7F28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9D877-4992-43DB-BABF-91BA27C3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71D2C9-0BB7-4A00-949A-10B7B08E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B0E9D-0D09-4FFF-854D-1D11242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B07DE-4CD7-4DBA-9CB0-CA71D1F4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C51-9A7A-436D-B459-9F35C3C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B5708-59E1-4528-9164-D0AE1F3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EDA38-8D4E-49D2-AF7A-8E4B373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07D18-77B2-46F4-A045-E9DA10B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98D66-B4AA-47B8-98A1-5EA4D13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42186-BB66-41D8-AA7F-3ECCC8C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F1E1A-7E8C-40C8-BA14-B1649D2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04233-03D5-4168-B26B-A8AB5F1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82CE3-4409-4215-B02D-8064010D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34518-3ABE-438B-954C-A8E9E148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4D054-E3C5-4FDF-9F60-DA5B3DD3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638-1F9F-436E-898F-36EAD86B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5C4EF-8064-4FD2-B8D8-71DDA0DB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773C1-7BCF-4E6C-9EDD-BAA5110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B499D-DA7E-40CC-B5B6-FCF7664B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05932-01AD-4BCE-B532-80820A0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D002C-4392-4838-839E-FEF64E5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1094F-E40D-442C-A531-0F658DF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C3E50-30FF-4EB0-AD0D-BF5BE0A1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D6277-EB73-4C4D-9C49-92846DB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7E5C6-7166-46F5-9D5C-294FD6F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563F7-3A9D-45EB-8417-6E18A7F9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7B5-AD4D-4099-80AF-E07EFA45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BBA25-26E5-4EBB-8F4D-D4217B0C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C94C47-4DD2-4CAB-B1B5-EC92A880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85050-D535-4921-94C6-5D0C2914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F67C4-3339-4637-A709-C4A027C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AF70C-E852-4C1E-ABC3-BC75F6D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C1A6C-E6DA-4B2F-98AF-086E534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CC22F-7FB6-4252-9296-40306CBE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B9AD4-56BA-4341-975F-5A13B5F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B222E-CD3D-4EB0-AB86-002BBFE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8482F-E1C7-4193-8002-089A880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FA4B-9504-44B5-BDB2-5D352EEF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7F077-87B4-4AAA-938E-F0E9726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8A4C7-1D1F-47B1-BB02-F861D79C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600B8F-3956-4AC5-817A-CCCCF3B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1251-39BA-4BE8-A6D1-1D64342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C4F6-FC16-43F9-B5A6-98843EB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5129-4481-4F38-9523-0A690EE7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915E-25EE-4B74-9B9D-F2964CAB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BF0-26D5-4927-9CF9-6DA52A7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609F-D2ED-4365-99FE-2B78AFB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F4F5-8227-46CE-82FA-5108684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FEB1-557F-463F-97BF-26BD3FB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3ECB-3D3E-472F-9DA0-B16C6A0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5151-E4FC-4B7C-88F1-3DAAD58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FC3F-5836-4B66-8170-A28F4C60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D390-F592-445F-9AF1-3B6E38C3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7F2B-15B1-4D59-BB01-3B6CE7B9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EA1E-C627-4AC6-8144-79AF3A3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18E2-07A4-4B98-8C26-3D565C4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723-7025-432A-B118-4617C1A2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C524-59C3-4028-900D-7A23D28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23F9-B0FC-4494-8C31-76489DE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4FF3-D30E-45A3-8782-6A97BA0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C3D5-4DD4-4EED-8E58-D655C0C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6A4E-BA0D-4579-8611-3DBD376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DD5E-9903-4CB3-9D0E-E6328D0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AA0F-C03B-4426-86A0-2A0551F4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1875-5B40-4D0F-9C7B-3976DA1E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6204-432D-4A2F-A252-8C7A4166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73DB-677E-44D2-BF70-2F8D4D87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FD0-D6B8-4540-B2C2-81306A56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95E9-40B8-46FD-B954-4169AAE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0B13F-701A-442B-A99A-DED0812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749EE-777E-429D-B7AD-E92045EA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DCA5-6A53-4847-A986-B0E0E1C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6501-D759-48AD-B4FD-E3B8AB8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96F7-CB0D-491C-9584-9EDC1D46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1034-C6E8-4084-BF4A-7016A7F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C4FD-7225-492A-A6BE-D771302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7EBC-97BC-4DF0-8933-FA26E85F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47AD-6AE6-4EFE-BD3C-0C1433F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569-62C5-4FFE-B0BC-3B6CE786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F47D-D27D-4AC0-9761-2D4E37C4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A50FA-4B3E-4A75-964F-53C8A855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C8F25-BADF-4A66-8F0B-AA843644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2231-14EA-4830-A00B-6C0B59F9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0148-E49E-44DB-A77F-0BD51EF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C9D2-B67C-449B-98F0-A907E05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E3CB-E288-4305-8270-8D10F28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BD10C-7348-4FE5-A54F-02BCC215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37DF-B9FB-42FC-A74E-B6280B58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2B39-5F94-45F2-803F-A0757B0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1AC-91F7-43BC-A9D8-4BC6916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1BF8E-5B76-47AA-9FF0-7D80F69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8B45-D927-4EBF-9C3D-628CFD0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4CA2-D264-4274-9055-C2D125D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D3A9D-0DF1-47E5-A67E-F66A4758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6E47-C68E-45A9-847E-9648AAF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6A0F-52B4-4576-A44F-4AFF2EC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1DBA2-116B-4C13-B677-F16E88EA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C122-3FBA-461F-AFDA-9D38BD5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41DB5-1947-480D-B2FB-E9D6EC0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2998B-51DD-4D2C-A7F3-B259476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37C-6032-4A7A-A61A-D1B647EE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5B57B-4494-44F7-88D6-3F57B90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6843-8D0A-4352-A5A0-C31CF19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E7B7-A293-4568-8108-A9328F07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0C55-0356-46A2-A68F-78C37DC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D847-EB1E-48A2-BF10-BE4D2685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A605-BEBB-4565-8C6B-F7C66D3C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E302-3F8F-4A15-876A-47662F0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1DA0-9B8D-4019-8CF5-129A9F5C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FBD1-8DFF-4C02-8EE1-5CCE4E1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8A6B-CD14-4765-9232-D383032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A85-6175-4DB1-A6D1-6CD9BF9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D560-5433-4929-8CE8-A5E15679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DB50-1263-4D0D-9353-CABAB09A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73D9E-CA49-4615-B3D8-F406291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BF94-3D30-40F8-B0F6-89C11FC7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4CB2-8916-47F6-9742-9EC7FFF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8842-9987-48BB-BB15-57C9368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B4259-7558-4613-A473-417670FB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B92A5-B974-42D5-B16E-76043094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10925-333B-4779-ABEF-9A08AA12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E369D-585C-4CFB-B0E3-662ED7C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6E9B-9120-4F12-B274-FD1E8EBD1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791-43F7-4535-8B62-E17545CD4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74CF-961F-4192-9927-1EDF562626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10B-6DB5-4D5A-B45D-D9788A245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805-E5F2-43F2-B247-BBD4DB944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765-F050-41B0-9949-EF2B8E93C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B27-4187-414E-93C7-450CD4D8A0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943-4BA3-4C12-9270-541BD9E42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F013-8B6B-435F-A3FF-D184403DF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E1E6-58D1-4A0C-A60C-9E147614F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739-2412-4996-980C-BDCF91E1D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E8A-B5A9-46D1-8908-79FA3F563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0EEB-81A5-405D-923E-2D39C5CB4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63E-7D40-4A76-9B7D-3F4C63977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351-D75D-43D0-9CA2-4F9990BD9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8482-DA7E-4B99-9E71-C7ED515F66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8A5-E4FE-47BB-8DC0-503981BAF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B33F-AC65-4136-96FE-7F319C95C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B033-B535-4F4D-BB83-DF9FE17212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F2F-47E7-4768-939F-BF26E6B39C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7B0F-F464-4952-90D8-032899280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2F0-8B62-4E29-B19C-D29300DD4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F9DA-C806-4AA4-9FF8-79E867876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9FA-F88F-4FAB-A9D2-4AF46CA17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1647-035A-48C3-A4E4-609A02985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67A-21BD-461C-9B5B-E971143DE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AE5-A1AC-48BA-8D05-DEAD94CC2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92B-C5D4-404E-A907-E326BF94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E4E3-5ECE-466A-96BF-831A4E575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74E-3D7B-429E-9549-37622BAD4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E1FA-90EF-47D4-BE23-73C378564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F99-E296-49FA-B5C7-A4885AEBD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E02-1161-4021-9246-E5371586D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65F-5338-48E2-A2AD-94301827A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39E1-3971-40A2-9D98-42479DAA2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986-B0F8-429A-90A7-542F091BB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4E72-8EC5-42C8-8B56-379CC52E7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7FCB-6B1E-4899-8B13-C248AF9DA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E839-C132-4723-B0A8-3F1590772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4E0-53B9-4B45-85F8-1EEA0167F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42920" y="2692440"/>
            <a:ext cx="89298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334280" cy="52768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360360" cy="366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1527120" y="2492280"/>
            <a:ext cx="360360" cy="3668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4"/>
          <a:stretch/>
        </p:blipFill>
        <p:spPr>
          <a:xfrm>
            <a:off x="1527120" y="3573360"/>
            <a:ext cx="360360" cy="365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5"/>
          <a:stretch/>
        </p:blipFill>
        <p:spPr>
          <a:xfrm>
            <a:off x="1527120" y="4684680"/>
            <a:ext cx="360360" cy="365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6"/>
          <a:stretch/>
        </p:blipFill>
        <p:spPr>
          <a:xfrm>
            <a:off x="1527120" y="5757840"/>
            <a:ext cx="36036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57280" y="1305000"/>
            <a:ext cx="8029440" cy="4248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63640" y="2990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63640" y="4286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763640" y="5006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47149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908000" y="3429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835280" y="48690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419960" cy="4676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403280" y="3500280"/>
            <a:ext cx="432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519120" y="1400040"/>
            <a:ext cx="8105760" cy="4057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871560" y="1766880"/>
            <a:ext cx="7400880" cy="3324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866880" y="933480"/>
            <a:ext cx="7410240" cy="5638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332000" y="9032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403280" y="41432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552600" y="1143000"/>
            <a:ext cx="8038800" cy="5143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1714680" y="2428920"/>
            <a:ext cx="7191360" cy="8668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3"/>
          <a:stretch/>
        </p:blipFill>
        <p:spPr>
          <a:xfrm>
            <a:off x="1714680" y="3990960"/>
            <a:ext cx="7191360" cy="866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4"/>
          <a:stretch/>
        </p:blipFill>
        <p:spPr>
          <a:xfrm>
            <a:off x="1714680" y="5500800"/>
            <a:ext cx="719136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609480" y="1438200"/>
            <a:ext cx="79250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9:3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